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656-0F63-4627-B5C2-44278A1B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1AC-B2E6-4478-BFD6-DF5A594F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950E3-36A5-4027-B3B2-C19E0D8B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C979E-3F0C-4FA0-8F75-2492B317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581E1-A202-4DCC-A2A0-8DB8FB98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9E117-0999-4149-867B-7FE6CC8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09F90-D362-4391-8D65-ED6AF4E6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800C8-AA4F-431E-AA9C-4108D265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8B469-4A90-4A1F-85A5-5D0FDB85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3E56B-B34B-400B-9761-2602BED1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BCDF8-68C7-42A2-BE3C-4B3B6F0E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643B1-6271-47D3-A1D8-CC7CB361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C1A-BA9E-45D3-8E58-038A7CBE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82D8F-D5AA-4A51-8172-086B950A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52883-EBEF-44BF-A785-3B92AD03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E9796-2FB9-48EF-9D0C-EE7DC9AD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675BB-A277-438B-9F49-4AF71274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00DA3-7406-41CA-9D69-3434335B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2E9FD-E000-402C-8519-963D4FDD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7AF26-2A85-4BA1-BB66-7505362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602B4-64B7-4F8D-8485-3B61247F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2F161-3B3C-410B-B050-4C450AB0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70A05-296C-4B34-A5F1-074B8E1C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1C4-57E5-488E-85CB-2082515B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513D7-81E4-40B6-A7EB-E59FFBC9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66A42-DD96-4E1C-AA3B-B1F4698B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79900-9445-4BB5-89BC-3D4F651C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79A22-C678-4252-8DBF-03E27468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5246B-E17E-4483-8138-30CA9B98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A1274-859A-45F3-A9FE-279A20D6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EF89C-6028-496F-96EA-83EAB95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59200-30CD-47E5-9BB3-9B6B1762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1C870-D596-44F4-896E-BE826BC3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B8891-F74D-4575-BAF5-8C12A957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9CCA-7C8E-40E2-892F-D21D2871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B27CE-51CC-465F-8AAA-CFB420FF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9CC1D-E5DD-4E86-ACF1-12B3D182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6FB73-74F4-4134-A367-871938AF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D21BF-B187-414E-8526-1A988074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27D7F-BC15-455E-876D-E700E1AA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6E535-1C78-4001-B9DA-7EF724A3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14718-9203-4875-955A-2C026C73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631C8-09C7-4ED5-A009-45379287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C1CF1-612B-46B4-B981-5F73F5AB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CE7BA-594E-4D4B-A8E3-AA0CB4CD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AC44-D1D4-4BEA-85BB-8555B27A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E4280-026E-428A-9FCE-9B578DB7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C8191-0531-4643-B5BF-E0D2426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F71E8-EFB5-494E-AF8F-E6D3A94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367DB-64BC-4C6F-A37F-BA550156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B60A9-47F1-4054-8827-B5A53489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AA30B-F829-4157-9B46-91880E4F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E1F44-761F-4825-8C0D-6AA32DA2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CAA62-428F-4409-AD4B-E42FDFC1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2ED7E-AC77-454D-BE6A-98A4F0E7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45A7C-4095-4510-8E79-053FD0E3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D4F4-4087-478F-9DF9-FD4AA167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399E8-DD3C-4968-BA15-2A036990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A955B-1B59-4EE7-9EAF-6C33B1B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3408F-DC17-4A79-A549-C2E0E9BB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B8049A-4FE8-475C-84DA-5593DB32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298C2-7141-405A-B2C8-1A1FAB5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AA3D0-FE7E-4469-BBCD-48ABBC89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0CDD5-FE65-4A9C-ABC0-26AB29BE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A54E2-F731-495A-8365-DDD7D596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69516-40F2-4D18-8869-F90BD47F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484A1-65A8-4FEE-9C46-02A35752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7788-1E32-4FD1-BD57-B280A3A3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5E011-C4A2-4933-A84B-43C5E94E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9D9C7-912D-409A-B405-A58E8B41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9CBDF-E5B8-445E-9A0F-2E514B6C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C7101-7C04-4D00-84FF-64B4DB19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0737A1-2EB3-4B44-B9B6-56B3A43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D1BAD-F529-461E-BCD4-3B390270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D7232-4300-414C-9A0C-CE0C017B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F6697-5F6B-4211-87F0-91F9E980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D302B-D27F-4231-AA65-5F98A036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9DB8C-653D-4760-99F5-D76F63DB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B9A2-E79A-48C4-9708-0675E047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9571A-4CBB-4A97-999E-5CD23AAD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66683-8B5D-421A-9B4B-A2AA0F8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833309-60CE-4F95-A210-6D7B396E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A3235-4ED5-4932-9134-780B7216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E3808-CE85-474F-9FD0-2D4AEFD8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986A5-F4E6-437D-B8F4-414F85C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9D9208-DC7A-470F-B7CE-D7DEA9BD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099AA-1A01-4423-9741-42B01D1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8F89E-1F1B-4FBB-A206-10C7D4EC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EB0B9-7A46-4ECF-A239-4E50314E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B6FA-6FD1-4A1E-9EA1-12FCED5E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625CD-4CB7-4839-A2C5-BE802902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1690D-B997-4F70-9B80-3FA02E91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AD252-171D-4F61-BE03-A27DF392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5D255-977A-475F-B52B-C5F2A2DF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A07E7-C7A8-4E48-84F1-323CC4BB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AE41FC-C936-48A2-AFAB-76280FA4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D6BA0-6F6A-486F-B401-882DD95B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DF503-A171-4BB4-BBD4-F7F9011B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30030-1203-4BB0-A6D1-79F8FF1B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BB28E-D87B-4D51-83A6-7878E675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09BA-9FCC-43D8-AB17-644D7A23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15577-77B3-4ED0-BB75-FADDCD94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9495BC-7610-4674-9F31-B1527E8D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4FA38-EFF3-4198-B5F9-8980D933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8A65B-6F7D-4734-8834-4806C4BD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D428A8-4E3E-4A97-A654-AD44C84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F27F4-A772-44D1-871D-69249440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FBCA12-5E18-4CD5-AE35-099647AC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6B791-E683-40DB-8C38-B9048164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8637E2-152A-4B01-9980-A060857A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ED7A3-11F4-4173-8AC4-29327486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BEE-A32F-4C34-9F33-4AC3E02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8FF5-CA08-44FB-B63F-C37C21E1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B308B-117C-4F1F-BD77-7BCB6791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F4408-AB45-44CD-BBB5-34B17860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7F6C5-3F39-4603-83F3-2019DCCF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1ABEB-EC79-439D-9616-43B3A5D0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82859-64A4-4D07-AD17-EDD39408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517C4-7A72-4956-A0BC-A76EE74B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DE0A8-A60A-4334-BDD8-4515F7CC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CF4AA7-8EFB-4530-8A1C-1D43425E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8F583-1395-45DB-9DAC-1130399B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D42F5-0231-4217-A561-42816E5A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458D-78D3-4C81-83B9-B1FC46B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B03795-B905-4D5A-876A-AAD3BFA9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3FBFA-1F03-44E9-A997-314BB127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32146-3CBB-463B-8624-8DCA89C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C0662-2ED9-4335-A2E9-435AD38F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1666B4-6292-4281-815E-01495867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76B7B-7F20-4E6A-8195-6DA9A58C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29460-68FA-481B-895C-7BBE9507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FCEC80-7E1C-41AB-B621-8B9D5B3D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3CD55A-3423-40B3-A529-FF588A13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C4DB99-B098-4E3D-A9DC-B54C2FE3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9B75-F83D-4973-A82B-0A1B24B4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F6242-1BED-469F-B422-A9A0C475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8DA04-FB49-4849-9983-C30987D1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AAE87-6599-4717-B082-56639A34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B6F20-D729-4E1F-9B3E-89E737B4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A76F4E-BA79-4F77-BA03-639FEE50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49D680-BFB7-4DB8-8AB8-05CECE30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81727-C7FB-459E-A678-4C022CE6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01A08-1068-44D1-818C-CDA23FBE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1CE8E-6488-440A-8B42-69ECB40A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50FE95-2A04-47A3-B3EB-787735D2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C96D-C6E6-4616-A8C2-1BD78B5C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1CFC6-E3CD-4616-A5D5-6135DDE0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0C86A-FE2B-4F6B-A55B-70C1DD18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283AF-B5FB-4624-A225-999BC9AA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024AA-3E17-4149-8BF2-1488AEA2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DC8F33-7F1E-4C45-9D68-8E59565A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75D922-8685-48C4-B06D-96DF2A1C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38A32-7F57-4CC7-838F-4C12E3EA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895897-C1B2-413E-95AE-159B2328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A2C46-FF19-4687-B49A-03E413B5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13DA9-288C-4339-A5A5-8B3F09F7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00F2-77F6-47A7-A951-AEC46E62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3B371-ADEF-4E69-A6BD-4D332B67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1612B9-78D1-437A-AB76-87659A5E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04A928-ACA3-4ABD-AC8C-6BE80575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9CA5E9-18B5-4CEF-854A-96345B32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EE22C-11A4-4E1F-88C2-86481AF9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58879D-D106-42C9-B718-D6766B3B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21FAB-4E91-4525-9B7B-F9055CEF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1AA5BF-E1D0-4985-9A2D-90C91F0F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221238-470D-4CAD-AA4F-7EA6334C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1BF269-66AF-4211-872E-963535E7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FDCB-EEAC-4BBB-A6E2-9D77FC00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400386-2E80-470C-8C01-091916BA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97DF91-A19D-4C78-9950-4EB32CAC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60801-6D4E-4658-94F6-B25381ED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0837-EF54-4188-81E2-F4ABA43C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8443-82AF-4BE9-AFEE-F53589F0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E4145-9D3C-42C6-A405-C80825A8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6E73-EC32-4BB6-A1F9-FE2D98FB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EF0-427A-4D97-8CFF-99A9C795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A7622-A609-4B18-8D84-1A44D648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34A41-4F88-467D-BC04-80856864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02FE-E9E9-4635-A583-7E58C0C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9FA1-1EF3-4831-9E58-A5305EFE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1F45-E582-4A66-A222-F2B444B1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4126-26FB-4CBD-AEB3-8D4AF020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A361-8F22-488A-8A6B-74027E01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639C-D2B7-4E21-962A-D801D309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D7D5-7E51-4734-8B4F-FC0344B5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0596-7433-43AD-BAF6-E02D34CF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870-63EF-4C3B-98F6-784AE461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EF1A-E6B9-46DF-9F3E-0BC547F4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0F9E-D44A-483A-867D-64CFA99E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EB931-C327-4646-92D3-C514EC38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E3470-4DFE-40BB-B010-E95264DD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64E0-4CF3-4AB9-B2E1-6E21E49D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25558-8E38-4011-B4B9-F0AFD3C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25C7-D82C-4B34-BFF9-BCEB7DFD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F00E7-68F0-40BA-9E45-D14329D1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5D9F-E37D-4364-89A2-61761AA4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73549-5643-4727-9BBC-DB791C89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C7D-9B06-485E-B774-FD4CBCDD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7733-28A3-4832-9B4E-518B924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60DE4-55CE-4B9A-BCD1-D2A5DAAA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CAD7-9E86-4B53-805C-35B8C79C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77DD-92C5-4B37-9EE1-EB1365D2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B69E-C428-42A2-B324-39AFCB5A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72AE7-C030-421F-A508-8A6DEF1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61CFD-BF3A-4633-99CD-BF7E990B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3669D-9C4E-47E7-A6D9-9D6B643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78071-86D2-46D5-9276-D64D7000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DD486-EC4D-4CD5-9E68-7A977571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A29-72DD-4D46-9B03-6C08588A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7A410-16A2-4173-A4E7-447D0C8F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32315-1B6B-43FB-93B2-443C86BE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17E6-D973-450C-BFF5-CAD6360A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4A196-89C6-4D49-996E-9C688DFD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05F3B-1618-426D-91B2-C70F4A3A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DC87F-0A33-4084-828F-152E7B5C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2FEAA-9455-4972-9179-1446EAD5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52A5E-4116-4442-91D2-E6391204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30340-2B60-4E78-A142-27C4E1F7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4752-27FC-42ED-A194-36CBCB6F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B96-7F4D-403F-9D80-B15903B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FD61F-91B3-4329-8FE8-26AF4BD6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599D1-FCC4-4FAD-8406-9A54E4CC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861B3-9B70-42A1-8B54-8FDA76C4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8BCB0-948D-424C-833A-DE22EAF3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1B4C5-F74D-423C-AC43-F4F3B5BC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1A512-8051-46FC-9CD6-508EFEAF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214AF-1494-49B9-AD92-970469FF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80A20-DCDC-45A8-85F3-DE0F41E7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1266-7B7D-4F68-95D9-08AA4A61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9E31F-A073-44DA-8B6E-3FD7299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B29-0C5F-4753-9259-0A19E290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8180F-6695-4D27-966A-31827DD9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79C3-4EA4-4C9D-A8C6-176027BF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25601-9DD5-42F3-90BC-0E1E803D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5DA27-23EC-4FF3-9E01-1EA8AB8C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E77AE-8947-4DCB-B26F-58680E53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3399-4653-4F9E-9511-50A7368C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4DD75-7A67-4EE6-BCDE-C35815BE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A4CDB-8931-40B6-ABAF-F7F71C82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8A51A-51AA-47D9-BCC9-797691A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7325E-A2CF-4B45-A152-276F4F49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BD5-21DC-4D23-B971-435BF31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2E133-3D55-4FCF-BD37-625EED70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04F99-A5C1-4B29-BA71-ECA4B24D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FBACD-40E3-49A6-92A6-AED5EE22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F3BE7-1AC6-4776-B987-734B9746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7BFA3-3CB8-4AD4-893E-C695FA26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FF724-71EC-4124-8B5E-ABB01E63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FDCE-3D73-490B-9864-C9E988D2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7AB90-3D4A-40D2-8867-5C3BE6A0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8F529-FF86-4098-8649-7175959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F54A5-2D6F-4E71-951D-22EE86E3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9F5D-23A4-466E-BFB8-7AC1B4678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EA6E-E44D-4DD9-822B-EC9357695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3482-8BE3-429F-B324-C13057E474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B127-ECA7-4F79-A94E-BF39D1A050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C434-3C9C-4A65-9B6B-CE2FF516AC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1EE2-3A9F-477F-AE5C-66E9222715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4B60-6C0D-4FBA-9039-E0D8844A4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4B35-B053-4454-A926-2D24D99590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3BE3-D57B-481D-AD00-94ADDD57C6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5C9B-6C72-4E81-8001-1903E68DC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67D-94F2-4110-9B74-298780ACD4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4187-719E-46D8-9AA9-2066BD13DE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17B9-CC9B-482C-BD5E-F6D873189D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86C7-2732-4030-AE5F-D0621BC904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AEC0-AA02-4B70-B42D-440EA18756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D3FB-A32F-4591-B141-26371C5A6F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3F60-6CEC-4D7F-B6AC-549CAA32BB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9D54-74B4-40A6-B8FE-D5561DE996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37E0-45B9-49DD-A3B5-3F3048919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8993-D56C-4632-8620-C2F3ED5B0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8559-3EB9-416C-AB15-0C0BC9A2E9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9AF2-847D-4599-9E0C-569E95DD1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E587-846C-4730-981C-D8DB7E1B4A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C9FF-064D-4433-BA3C-18E03113C8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B7A7-B3B5-43DD-BE40-02519244C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621F-85B7-4C5F-AD0D-0D7F9D90A0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C034-1071-4BF9-9DB1-A5FA8BB9C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C859-15C3-4EC4-8D89-3ED1370BB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5D05-9371-4563-A259-B82FB5EF81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2FA0-7716-468C-B6D6-538E68252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EECD-AF56-4FD9-9DE1-B7911BC83C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7BEE-0852-4CEA-A2E2-EE2C1BAF8D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1DDE-D78A-4AA0-A190-27D6440B25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F588-2A48-436A-BFA9-944FED2DC8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EC4A-8D4B-4545-99FC-528E35932C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DA81-1288-4B6F-84C3-41E1A2EDC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E764-1BCF-44F7-8CE6-24363BF928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EFC1-511C-4DB8-86AF-521A3F5F0D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1534-435A-49C8-BFBA-56FE5C3D98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B3D8-9E4C-4C7B-A73A-606244B9E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57320" y="3157560"/>
            <a:ext cx="88279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33200" y="1176480"/>
            <a:ext cx="8877600" cy="4505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16000" y="35146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924360" y="35146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6659640" y="35146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73240" y="4667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3924360" y="465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6703920" y="4653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09440" y="1009800"/>
            <a:ext cx="8923320" cy="4838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1366560" cy="504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2843280" y="2924280"/>
            <a:ext cx="1366920" cy="504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4932360" y="2881440"/>
            <a:ext cx="1366920" cy="504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6948360" y="2924280"/>
            <a:ext cx="201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33280" y="1190520"/>
            <a:ext cx="8675640" cy="4476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258920" y="422100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5191200" y="422100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876240" y="1938240"/>
            <a:ext cx="7391520" cy="29815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258920" y="19303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5219640" y="198900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7:11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